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grifam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7-03-29T09:07:08.790000000" idx="1">
    <p:pos x="5313" y="1964"/>
    <p:text>tab in text that runs two lines for clarity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F9E7-66BB-4A03-BAEE-B9CB005E1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B48D-9FDE-4363-9D1F-48D9F6034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1A0-9D61-4E9B-A361-4AE280F1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532-3CEB-4F7D-AEEE-29464383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440A-3C1F-4991-B112-A2CC3459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C93-3EA8-417A-83E3-81685EA5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B25-C913-47CA-959B-5D3A5494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73A-57E6-4511-913B-DFCDA75A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597-E651-4BEB-9FEC-E09BA260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359-AAE2-442D-B6F3-CA92D7D3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E03-0725-4034-AE35-9456CC36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13A-C01E-4B29-8DFD-D2658515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15C-6DC8-4731-BDCA-FE3F9D43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6AA-3379-418E-8E48-3C60D3F0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4ADD-A3F1-498B-BF63-AB77D8B6D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4 Pastoral nomad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as increased in recent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 a form of intensive subsistence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d not develop until after perman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settlements wer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ynonymous with transhu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most common in dry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4 Pastoral nomad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as increased in recent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 a form of intensive subsistence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d not develop until after perman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settlements wer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ynonymous with transhu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s most common in dry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5 Plantations are most commonly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American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nd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5 Plantations are most commonly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American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nd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6 Compared to other grains,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f less economic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more uses for huma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be stored a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ows less well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grown primarily for domestic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6 Compared to other grains,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f less economic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Has more uses for huma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be stored a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ows less well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grown primarily for domestic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7 Ranching has declined in the western United States primarily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fectious diseases have killed off he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owing crops is a more efficient use of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government provides 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es for ran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Vegetarianism has become so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lack of water limits the number of anim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7 Ranching has declined in the western United States primarily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fectious diseases have killed off he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Growing crops is a more efficient us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government provides 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es for ran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Vegetarianism has become so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lack of water limits the number of anim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8 The most fundamental shared aspect of regions that practice Mediterranean agricultu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love of goo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willingness to experiment with new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milar climat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lose proximity to the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peaking of Romance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8 The most fundamental shared aspect of regions that practice Mediterranean agricultu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love of goo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willingness to experiment with new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imilar climat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lose proximity to the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peaking of Romance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1 All of the following areas were primary or secondary origins of vegetative planting, ex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sopotamia/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9 According to the von Thunen model, which of the following factor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to a farmer when deciding which crops to g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ance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ransportation cost per kil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Yield 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rice per bush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utritional value of the c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9 According to the von Thunen model, which of the following factor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to a farmer when deciding which crops to g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ance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ransportation cost per kil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Yield 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rice per bush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Nutritional value of the c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0 Which of the following area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ected by des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merican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entral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entral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western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0 Which of the following area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ected by des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merican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entral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entral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western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0_14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0_01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1 All of the following areas were primary or secondary origins of vegetative planting, ex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ou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sopotamia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2 Subsistence agricultur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2 Subsistence agricultur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0_03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3 Shifting cultiva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the interior region o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ithin 20 degrees latitude of the 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 close proximity to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3 Shifting cultiva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the interior region o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Within 20 degrees latitude of the 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 close proximity to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10:10Z</dcterms:modified>
  <cp:revision>67</cp:revision>
  <dc:subject/>
  <dc:title>CRS Chapter 4</dc:title>
</cp:coreProperties>
</file>